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8365-E267-4914-BEAD-472C8B5F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BE36-151C-46FE-BC1F-F3114BAD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65AB-FBFD-4C52-BEAA-A9197724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E1C1-0DA9-4740-A849-C698317F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183D-7918-478F-92C8-E3E7AC50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3175-CB70-4D3B-93C9-82CCF6F3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59E7-1A5F-4FE1-AFD8-93BCE44F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FACA-573B-4EF8-8412-B3D43CB8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AC85-3308-468C-BA9F-9902EFEC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2D48-0D1F-49D1-928E-8BA0E615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97AF-CB3C-45EC-9F64-E077C168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41B3-CBD7-4392-BD8D-9771DDEF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C5EE-150D-4BBD-905A-A6552185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3390-8C11-40DD-9FF5-BC23FC74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150B-053C-4DD1-AA6B-A8147C72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237F-8F53-4DA9-BDFF-A72C4976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E7A8-A5E7-4F6C-9174-48BAF9289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96E8-13CE-4CE1-861E-4B8942CE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4AC8-F58C-47E8-8335-E97A1589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C3D2-0B24-4C31-873E-326B3952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FAE9-F0C5-4CC9-A58A-A95F1625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9E5E-21E7-4374-A407-A89C1530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EBE5-63CC-4A31-90FB-23DE4F98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9FF5-73D3-4521-98D5-8BAE0E05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F4E3-194D-4814-B64F-1CBAF6260F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0D76-5C9B-4789-B3F9-074763B901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ill There Was No Remedy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(The Divided Kingdom)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6, Lesson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.58-6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Kgs.4:42 – 6: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867280" y="609480"/>
            <a:ext cx="30481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ces of No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Jor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419360" y="1600200"/>
            <a:ext cx="1447560" cy="152280"/>
          </a:xfrm>
          <a:prstGeom prst="line">
            <a:avLst/>
          </a:prstGeom>
          <a:ln w="5724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362320" y="2438280"/>
            <a:ext cx="3504960" cy="990720"/>
          </a:xfrm>
          <a:prstGeom prst="line">
            <a:avLst/>
          </a:prstGeom>
          <a:ln w="5724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819520" y="3352680"/>
            <a:ext cx="3047760" cy="304920"/>
          </a:xfrm>
          <a:prstGeom prst="line">
            <a:avLst/>
          </a:prstGeom>
          <a:ln w="5724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re Stories About Elish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feeds 100 men with 20 loaves – 2 Kgs.4:42-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heals Naaman of his leprosy – 2 Kings 5:1-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ease – 5: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tion – 2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nment – 6-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leasure – 9-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iverance – 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dication – 15-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re Stories About Elish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an ax-head to float – 2 Kgs.6:1-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inds and Traps Some Syrian Soldiers – 6:8-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warnings to Israel upsets the Syrian attack strate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is threatened by the Syrian 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believes God’s army is always big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inds the Syrian ar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s them to Sam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eases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923760"/>
            <a:ext cx="9144000" cy="5934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H="1">
            <a:off x="5105520" y="3809880"/>
            <a:ext cx="30456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4572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isha Captures Syrians:  Dothan to Sa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16:38:22Z</dcterms:created>
  <dc:creator>Terry W. Benton</dc:creator>
  <dc:description/>
  <dc:language>en-US</dc:language>
  <cp:lastModifiedBy>Frank D Vines</cp:lastModifiedBy>
  <dcterms:modified xsi:type="dcterms:W3CDTF">2005-08-09T13:29:54Z</dcterms:modified>
  <cp:revision>2</cp:revision>
  <dc:subject/>
  <dc:title>Till There Was No Remedy (The Divided Kingdom)</dc:title>
</cp:coreProperties>
</file>